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FE318-2844-4CB8-82B6-FF1C7A86D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51C4D-F07B-4444-B2BF-D82642BD7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26DE-4482-4D8E-BEC2-D9094C07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F0BF9-2E37-4EBC-9514-59BB68F81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DA0F87-CBDC-431B-AB78-43A3E4B81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6210FF-4F55-4E44-BC7E-A42D5064D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44B56B-3BCC-4382-96F4-7BED6C8FF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60DC24-F48F-4B00-A569-557ED63ED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99C242-141B-41CA-99B6-C53E88BD1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DEFC6F-BA6E-4B09-98D4-77C7AACC1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369647-71D5-4DC5-90F7-DE4FC081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197D-EC88-4473-9722-472C7012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DEACF3-C79E-46CE-9D8B-82C9D4BA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80D825-F2F0-4E3F-81FC-0DFBDB8BD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05101D-84F9-4ED2-87AC-DEDF16BE8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E9F709-3D5D-441A-B837-F4BF0427A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FD2F6A-E4AB-40D8-A049-EDFEB1AD2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9E38-2B66-4316-A501-CBF529022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4C2E-EF6A-402A-8B7B-31C97228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5FD3-0EAD-4129-A9D9-F2010EE3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87F5-87AE-405C-B09C-EA141AA21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F7E3-48FB-48D3-BC15-640DA2D6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36B7-B3E8-4AFD-B3A4-E2D5EC9A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4480-84F9-427F-AA7B-355C188E1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6A1F-0F62-43DC-B219-9FF1933D88B2}"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0E03-5F1C-45EA-B4F3-FBD2B775B68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B03E-C262-47C5-9DB9-296BF67382BB}" type="datetime">
              <a:rPr b="0" lang="ar-SA" sz="1200" spc="-1" strike="noStrike">
                <a:solidFill>
                  <a:srgbClr val="ffffff"/>
                </a:solidFill>
                <a:latin typeface="Times New Roman"/>
              </a:rPr>
              <a:t>١٤٤٨/٠٢/١٦</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A8AD-4E0D-459E-8354-7D50908AB43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